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757-02FD-49EE-B0E2-255B3ADB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D1B-C34D-4B8F-B38D-D1EDF292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CA71B-D997-46C4-9302-E1D252C0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4485-791D-4ECF-98D2-9E061C32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3EFD-DD5C-4C83-82CC-B0536B2F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929E-01C8-4064-8A89-2F4C6913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70C6E-181A-44E1-9954-1565ED4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AF9B-5746-4439-BEC0-8ACA6EE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972CE-C5ED-4044-8B38-626D100C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4A9CD-CAAB-4D02-B89A-94823FEB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AFB03-234E-464C-B087-4001599B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083BB-3B5C-41F6-AA26-F84D4B0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C43-6B73-4F4D-BBA3-3F14869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8BB7E-82B7-4532-9500-6CD8581E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49E15-470D-4FF1-960D-944E8E81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191E0-FF10-4F52-B90D-75E261C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1806D-6D57-45CB-BB94-03BF430C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11B5-52A9-4DF8-B099-A95D9E9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A5833-F57A-419C-B250-8765816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7790-365D-4A56-8F40-60E094F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3E2C5-1739-46CE-B400-75A0780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498DC-0652-4439-BD21-09AEBA09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2484E-5C79-4002-87A1-391331E0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227-3055-492F-A06D-18DF019B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23189-BC00-4072-88F6-BFD659C0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1240A-3065-4C25-A879-4EA07D28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8F602-8833-4B47-8C0C-C79FBFB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5D5C1-DD9D-4843-9092-EF674CF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A5747-971A-47ED-AFD3-21BAF91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3D86-75A7-4F51-A26B-0E557AD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C5EE4-AC56-4935-B815-58CA76A5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3B1E4-1AED-457B-BE0E-D309CF0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80157-41DE-4268-9685-A608D8B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40C9D-4F1F-4CE1-AAB0-E112D9A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D51-F113-491B-8D1C-A5ABAE65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E5FB9-DC07-46C8-9EC0-AB6E52C2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25064-4EAF-468E-AA65-B0881C9C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83F7E-2DE3-403B-81D2-97499B0A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C1F54-6920-404F-8034-4BE7CEFC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59B1-0D90-4E60-8CB3-511D134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A2D9E-BB16-4C1A-AC04-3195006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07FA8-EF70-4736-ACCD-79C28469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71035-CA7F-481B-9237-59A8FEF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FB89A-4B71-4998-9E6E-3355AB8C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4E99B-334B-4505-925E-5290A3E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C95-DE3D-4822-AF9F-251CDD99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4D981-C1EE-4AFB-A9FD-A378019F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AD3C3-F14C-4EFE-A0EB-B1615CD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360D0-349A-495E-8EE2-E81AEDE7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87AE1-B1D1-4C6A-82A9-25E345A2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BB36F-A2D7-48B2-8E34-2694E929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3FDED-6AA9-4A3E-A943-C38840FD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E1DE3-FA5C-4E5C-911C-605E16B1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5E8E5-FE11-4681-AF75-75034B5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E28A7-F50D-48D5-BD8D-C74E0DCB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9E40C-6FFB-4C0B-B3B7-708CFB6A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C01-7546-45E1-BE6D-DA364F74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BC09C-635C-4ADE-8889-9547508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DF250-5890-4D31-B82C-0156D2C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F834E-742A-4C32-931B-9E1CB0A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41E62-C8C5-410C-9F9D-89872F3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7252E-1926-45EB-83A6-6617B46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9F001-5F3E-4B7E-A071-2426C9DA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640E9-754C-4B42-91CD-ACAD9ABB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E6862-B795-4303-89AF-ACE68D4C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9EEFD-7790-40BE-81CB-C6BB5268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48274-D3F5-4193-9441-952B6D45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0C7-FD43-4D28-BBE1-1CAF94C3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180CA-62F6-4ABC-A3D3-FF3E7F1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A42EA-A8DB-401C-AE26-E2D8825A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1F40A-F78D-434A-BEA6-DBFD58FB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564F2-9775-4691-8BD2-B3DB23C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F40EE-3AF5-426B-B12F-D7DAB52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4E699-55CB-4D51-BCFF-8D58FF0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0D5CA-94A5-4182-B022-823EC9E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7A98C-C086-483F-8190-CA32D5DE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DFB9A-80C7-49F9-B58A-24072BAF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6133F-606A-4AD5-951B-9A2DB158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B8CA-0383-4915-8E5B-283865C1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85C32-1B40-40D8-8946-FD79089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30EF1-AF81-4601-A0C9-8256013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94805-06DD-4C25-8AC0-FDC38530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BC5C8-512F-4414-BF97-50D5743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50E9D-3D00-4BB1-8BB7-0FCBEAC1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BAF04-FC82-47BE-B03B-6F09EE0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5C6EC-E00B-40F2-97BC-BD826427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C5172-04F3-4242-AC85-E52DD31D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66AAF-9A57-4BFB-9484-69EAC96B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51BD2-6D66-4FEE-94D0-D399BBAB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AA2-B10B-434B-A491-35EE5AE3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24A54-09BB-43A7-BD43-E1C28AC7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4666E-9026-4761-AE8B-630476F4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9F534-7C35-4956-96CB-16C6100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49CB6-FBBA-4FBC-9DEC-9A252C4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106A2-CA67-4158-8032-AB2CFFB0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3CF2C-6F0D-4FA7-96AF-78F7D545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5DDB8-0076-4555-9EA0-E074720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F4A6D-5DA5-4754-A5BB-64C8242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3F8E4-A823-4DE7-9BE0-8B4ECA2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CC678-7D60-4A3D-8536-FDA0284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6BD-1519-4CC2-A738-ABEC463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6E39B-B421-4FD5-A9ED-6770287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AB544-B838-4F27-9261-D72181EA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0C338-C3E3-423D-8E24-61A0EC5D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30968-8DBE-4FFB-B04F-C74AA5F9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0D890-1113-49DC-8949-3C3FFC1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D1075-25F2-41CC-B7EC-7E9C899E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E11D8-8CC7-4FA5-A804-D083EEBF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A02A3-88EB-4AE4-BDDB-60D7335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1E0AD-B867-400B-A84C-430808BC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BCFE1-CC3D-4D09-B7B0-3FEA878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6E1-FF69-48D4-9B73-03D7AE78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FF8D-E8B5-4B5C-9A6F-F4DA5565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B27AC-270E-4677-B449-8533071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1DACB-DB2D-4045-BA72-72F6AF2A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5D680-18AD-4F88-990B-138921C1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E7F8A-BB7D-49E0-957E-0C5F4D9C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F6595-8171-446E-A433-E53041AB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775150-A21D-46D6-B3BC-A3F0D755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BF8D7-E79E-4EA3-A140-6662AD4F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AA387-317A-4476-81CF-23A7531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85BE5-4F16-4B82-B11A-7C31BF4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AEB21-5BE3-481B-BDFD-5553A0CF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3188-9397-4F4B-9F6E-6457EFF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8B3570-0146-4A6D-8DD8-29FE764C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3544D-E53E-408A-BCDC-04D6818A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721EC-B713-43D1-BC9E-56C7F64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7E6E9-020F-434A-921E-544EB2F0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749E2-C10D-44FA-AC4F-D0254B4A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A142D-DAB4-4A40-8F90-D8DDED82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7D24C-856E-47BD-8BB2-5F525008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6B7BD-E19D-4E5E-8369-E44E87ED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9B6E5-0CAD-4056-B07A-6CFD14D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AD283-9802-4F0F-8280-BA0186D3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697E-BD2B-43DF-9046-71DC8659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3531F-8B0F-466B-86A0-59B1D8E2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5CDD4-5EF5-4225-AE61-C7C3A0F5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37260-6098-44C7-BE20-C863135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2CBC1-F84D-480C-AF9E-37E272A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060DC-BDC6-4A4A-AD9D-8B7AABE1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83D2C-B809-43E3-8B55-5AF8CEF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0CAB2-E30F-4FA5-A152-D594EAEA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9CA54-E7D4-40CF-9638-648376C1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439AC-6944-4370-B3FB-B58D54CF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405BC-0CFA-4099-8E47-5A3ADCC8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7548-4DAC-41CC-961D-FDABA108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96388-1AD4-499D-BB37-CAAA3084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4F943-9B3A-4AE6-A4B7-925B087B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0412F8-1C1A-41BB-A9D1-61F9AB5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B6DEB-E0DF-4B29-A3D5-D92BEC98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3FD7E-EAD6-407B-A298-C0A0955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0F689-8AE5-4F2B-AF92-63DE6B1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46F14-713F-41B9-A5DF-50DAA6C8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C023B-A64B-40AF-82B0-68BBBB9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A63E8-476E-4FF6-8B13-881170D3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1EB52-0432-4E7E-B063-5A277692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8CE-81C1-420C-8921-B42FA13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982C4F-2934-483C-9D74-CAE80C43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2E949-874B-4DA0-A039-67BCCF2D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16709-FFF0-4821-B135-6A97C89F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0943FA-30D0-40C2-90CB-C050E8A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3CBAF-CDDD-4E2E-A300-E4925AB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B1F6E-2062-404B-B033-AD0B6F6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E2461B-6903-4593-A1F7-B149AD57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26887-C64A-46CE-A84E-986FA74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44F871-238A-4227-8FB1-1088E26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D1C02-9559-4177-9CAA-E0C43F0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6168-55A2-4E02-9834-EDCE511E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1F012-23BA-4416-A3A5-372DD290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EFC2D-9369-4BFD-B97B-55E5297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44586-323F-4BC2-9BD3-893F68F0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6CA8-37A0-4F74-82A9-F0CD3FF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BEE2-260A-4B2F-809A-44EBAB2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58CA-B436-4DD3-B04E-CA6C0C6D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CDFC-BD91-4031-B1F1-40D38063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D42-CA0F-4D65-9A2C-DD96C82D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09E7-9A06-40BB-AA72-C88FE307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7AFF-5A31-4FD6-BEFD-01CD322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739F-1D80-401B-825D-4BC1F7B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73DB-4B74-4B7C-9E3F-BE5B24B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D60A-4EEA-4FC7-8D02-54374A7C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D400-099D-4BB2-A31A-D3E1F6EF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D5BD-0CD2-4A68-AF78-25DD1DDF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6303-7EFE-484E-B5D6-7AFB5765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1466-3BF6-486C-9F54-EFE5422F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2C51-416D-4709-82A8-89F1DAB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537-A414-4A33-B749-9302A880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0B10-0C2F-4C0F-9F0C-14FFF9B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86AB-618A-44F4-A10F-ED4488E5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9E8E-B81F-4268-948B-12318924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7080-534D-460A-A404-1D06CBD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F1F7-A221-4DBD-A2CC-86BB285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46DD-287C-4EC2-A8BC-6F6EBD0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DF17-E9B1-4FFB-AC69-CB224260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5A23-8C55-40F0-BCE1-23AC1A91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D2FA-6351-4990-B91B-16CD6085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CEA0-B0F2-48A2-BC9C-EC677622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C4E-75E8-42DE-B8FF-32C2488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9CC7-7051-42B5-8454-7B2AF37F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8AE7-0F14-4EC2-BC20-78808F7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663C-9EA4-4DB1-B6A9-1C1FAF7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9A9A-D69F-4495-BCDA-D98FD557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A9F7E-6246-40E5-A529-8F455C8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2E2F-CA03-4ED8-A03D-FF9A5B5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B3027-058C-4ABD-83A2-5389898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6501-0C56-4E8A-87F9-E579AF3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87D8-1004-4A1B-A0FC-C4ACFBF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F5E9-2944-4F49-8510-3D01B095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0A6-54B5-42BC-9A7C-27730F3E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4E8C-CAA1-438B-BC74-8DA955DE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817F-871F-4843-927B-FE477EB9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0428-9A4B-4D20-8907-0DAE293B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73D20-F463-4ECA-A0CB-E6A313D0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3479C-1C24-445A-864E-5BE7562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95F53-53CF-4F87-B5B7-D24E1924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739D-2A3B-4844-B163-B011E2BD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0AC28-F787-4A8C-991F-14203D5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57E42-4926-4451-AF23-7109D47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6608-2E0E-44AD-9C63-8F93CD9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3A1-5276-40AC-8E43-95046E5A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8D3F-ADAD-440F-B640-F312E50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4F151-5F20-4E53-8F13-684CDFC3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6757-0A90-4EC1-91C4-07726793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EC0CE-C9E4-4F49-8CF8-A5856598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C57F-F90D-4FB6-A786-7C74851D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D377-7E17-497F-9649-CE42C5E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E79E-3EED-4436-938A-E7F6410D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89198-030B-442F-B8AE-5027C8C0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5FF2-4EC4-4A73-B837-A54BED1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C4936-AA9E-4AE0-AB0E-294C5F17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B65-FE31-4151-9553-33432EA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5A8E-D8C0-490F-B2F0-14B8C3E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1D43-E2CE-46D8-8004-199BF25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4C3B-69E4-4A93-96DB-816404F9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21785-20BA-4E61-94B3-F3DE97A0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1FD6-3D39-4279-96CE-752BF23C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E2D89-DD97-4661-B69F-0A48D934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E90F-B157-49EF-A5B2-0A6000A1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86C3-7D34-4BEE-9C73-9DAB5108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85B61-74F6-4386-9423-1BB0BABD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3C09E-76F6-4C22-BA77-494D7CEF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C92-7A82-4CC2-8191-0443F02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7C9C-DA62-4F1F-98ED-4F6ED64B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DFF4-6B96-45EE-AAFC-43699B61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8D07-4F1A-4F10-9AC1-04FEFAB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25AD-D564-43B4-A0EA-16DB3D0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BC12-FFCB-49D5-BE29-22B7F89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E3AE-AE98-4094-A7A7-E98DBA33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3F046-D5CF-423E-8C08-2BBB462C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C9B5D-734E-4398-A705-85483170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2C7AA-4454-4B1E-ADF0-C2E8582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BE45E-AD82-44E8-B4EF-EB8F72E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657E-B50C-4773-AEB3-F44590962E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D401-B362-4DB5-A9AF-1B93992FB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405-E188-4808-B15C-9D51BD652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2BE3-85AF-49E1-849A-52FB2F875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DB11-39CE-468C-91C4-E56F75B31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606-13BA-4244-97EB-CAEDE9854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748-7A5E-44B8-91E4-F82F8A33DC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353-6842-475F-BD75-DA8578C92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24A-E987-4EF1-BB45-991DBF3D9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8F8-FD30-4DAE-9AD9-3821BB8FC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3D5-8475-4248-B37B-973A36159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D156-7DFA-4BEE-8F99-E577E003E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E99-40AC-4FE1-897A-CB2753837A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C60-B3A7-48AA-AA31-854DCB50A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F313-007C-461F-AE7F-B92C7898B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8F8-6B54-4ECB-9764-CCF450A103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1530-A2B0-4B82-95D3-169069048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5348-070F-4954-B2CB-E5DDEF1EF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D54D-EF6C-4FE2-B2CD-2153C95B7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E67D-BC1B-46C0-8274-DB1FE4193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1410-3C3C-4BBA-AD5C-B58EB1C8C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BA9-124C-4ADB-B04A-4B2FB6F0AE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6C5E-6710-4F44-B87B-7CC1217D7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E480-D583-40B8-8499-A6B10C53A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4D0-2570-4A37-AD8D-879F836DC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002-C4E4-41EF-8E65-A67597BA0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70E2-2BDD-415B-8C3B-2439648FA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8476-2682-4276-A620-3550CA9FF0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775-F372-4D39-8941-59C13944A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9B2-BDD9-4C01-8EDF-A6355BAD5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6084-0EB4-4FB2-838C-AD2D86551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025D-12FA-4C5E-809B-6E3C0C3FB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3920-E2F8-4981-A7BE-2088E607B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E7B7-8FCA-4AEC-8BF2-F58A0A93BC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A0D-1718-4E15-AC79-19A1C09FBD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783C-73DA-439E-A887-F049D0256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B14-9BF2-4D11-B390-E82CCEF1C8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1983-89E9-4637-81F3-A1A8A9ABDF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4A2-2E3B-44C0-8A19-4BEFB6BDF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A52-7AE3-49AF-8D0F-1F37A6808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71920" y="3200400"/>
            <a:ext cx="3800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7960" y="723960"/>
            <a:ext cx="8668080" cy="5410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61920" y="217188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52560" y="251136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814480" y="215280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805120" y="249228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797360" y="216216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250200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29360" y="216216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020000" y="250200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125360" y="402588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116000" y="436572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135080" y="538488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125360" y="5724360"/>
            <a:ext cx="87336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124160" y="402588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114800" y="436572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130640" y="538488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121280" y="572436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093080" y="402588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083360" y="436572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093080" y="535932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083360" y="5699160"/>
            <a:ext cx="873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95400" y="1104840"/>
            <a:ext cx="8953200" cy="4648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332000" y="24591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4356000" y="206064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4284720" y="2411280"/>
            <a:ext cx="187164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324000" y="5003640"/>
            <a:ext cx="244764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324000" y="5319720"/>
            <a:ext cx="5760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276120" y="2533680"/>
            <a:ext cx="8591760" cy="179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84360" y="3962520"/>
            <a:ext cx="237492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3564000" y="3962520"/>
            <a:ext cx="237492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415200" y="3962520"/>
            <a:ext cx="2374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7:3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